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C96-5A29-44BA-8BD6-5C79F758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D40-DFF1-4E52-A268-378FB98B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91C-77D6-4301-A39A-0C5C9366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168-522E-4F12-A254-09BC9272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80C-87FE-4EA5-AECB-6F5FB9A6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8948-4B5B-44E1-B151-F7DF894E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A29-B4EE-46D0-A916-CE302CA1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369-6DD7-4485-834D-6AADC326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F5C-08D0-4246-8BBE-237331D7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3EB-F304-446B-B5B0-E49BD32B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09E5-6BC0-4D2F-806E-0C02DAC5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528-9ADF-48E8-B67C-A33BF50A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E412-D4D5-4D66-A62C-6C6034AEB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309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askerville Old Face"/>
              </a:rPr>
              <a:t>ANSWER MY QUESTIONS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1844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2708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What do we call a young ins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48360" y="2708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y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00:40:06Z</dcterms:created>
  <dc:creator>justin.lang</dc:creator>
  <dc:description/>
  <dc:language>en-US</dc:language>
  <cp:lastModifiedBy>justin.lang</cp:lastModifiedBy>
  <dcterms:modified xsi:type="dcterms:W3CDTF">2009-06-16T00:51:56Z</dcterms:modified>
  <cp:revision>2</cp:revision>
  <dc:subject/>
  <dc:title>ANSWER MY QUESTIONS!!!!</dc:title>
</cp:coreProperties>
</file>